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187F-9692-41B8-AC24-D346D481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0CF-8C49-407C-AF68-7638BF3CE8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6E3-35C4-48F4-87AA-60CB50AE25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56F0-7098-4774-AF1E-404B7C5B12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80D-04D6-49B9-9BFE-8CD3721CFB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D46-A5A0-4C82-B868-31599136E6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968-B1B9-4935-83A5-3D2DBFD54F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6BC-9E04-4794-ADC3-E57D8477F9D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B4F-A9CD-47ED-A976-BD8ABE3A52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718-F8BF-4D78-8EE4-7FBD076277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914-7A82-40FE-BB83-CED0535049B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9255-4EA0-43F5-ADF1-850E11E641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53ED-DDE7-4F09-9095-E6054C0BA9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A614-836B-42AA-902A-C6B16BFC8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5EB8-7DB7-4B1C-9E42-F3920BBF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3510-616E-41B0-AC51-5D0451C6B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0F56-AB60-4E3B-A2D7-523799E0F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4942-1AF5-4263-966F-14014FB0A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F25A-5ED8-43C3-87E7-F64797E01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E509-A076-49C0-AD24-B705CBFBC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D719-D239-4373-8A2D-FBAB0EDA7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E9D5-DC9A-4504-B3D4-9D313EEA9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BADA-85DE-475D-A57C-CD3C6B08D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7EBC-20EC-4310-BE9A-4C8F88D25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505-AC27-47C0-8F35-EDB2B2B07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381-4A8A-4895-B5D2-408D1A5B58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9360" y="3024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125280" y="71424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682640" y="698400"/>
            <a:ext cx="71596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Motto : 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Evaluarea corectă a unei nereușite este o reușit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rearea strategiilor de evaluare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tinuar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6000" y="1371240"/>
            <a:ext cx="8781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c2e86"/>
                </a:solidFill>
                <a:latin typeface="Verdana"/>
              </a:rPr>
              <a:t>La crearea (modificarea) unei evaluări aveţi în vedere</a:t>
            </a:r>
            <a:r>
              <a:rPr b="1" lang="en-US" sz="22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siguraţi-vă că toate criteriile dvs.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Luaţi în calcul ordinea criteriilor dv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46ED-3F0A-47AD-B9BF-9B4BC617B84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8CB-8417-47E8-AD73-F0C21F17246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: Revederea notiţelor personale, precum şi a observaţiilor colegilor referitoare la activitatea dvs.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Revizuirea produselor-model “ale elevilor”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TEMĂ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Revizuiţi propriul produs-mode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 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4.19) (Mod 4 planificarea în avans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314-1453-43D4-82E5-44F140200D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lis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 dvs. referitoare la O.R./C.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l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b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ctiv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şi operaţi modificări, după cum este necesa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propus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Tabelul de descriptori conţine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criterii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col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oana din stânga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are identifică obiectivele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descriptor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ii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oloana din dreapta)</a:t>
            </a:r>
            <a:r>
              <a:rPr b="0" i="1" lang="ro-RO" sz="1400" spc="-1" strike="noStrike">
                <a:solidFill>
                  <a:srgbClr val="ff0000"/>
                </a:solidFill>
                <a:latin typeface="Verdana"/>
              </a:rPr>
              <a:t> -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care descriu nivelul de performanţă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Consemnarea experienţei de învăţare pe blog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, pe blog-ul personal, asupra activităţilor, 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 asupra modului în care elementul central al acestui modul v-a folosit în planificarea şi crearea unităţii dvs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 elementele cheie ale învăţării, la eventuale întrebări şi aspecte ce mai trebuiesc lămurit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0B6-4B3D-43C6-B77B-5752188EFDE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36F6-9496-4B39-A9A2-A78D00F7184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B61-58EC-42D3-A500-C4D5EB1A380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5E4-C762-46E1-BFC4-A2D852913EA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1480" y="4432320"/>
            <a:ext cx="860724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54288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30D-C5B8-40DD-B891-FE982DF9120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ABF-6A91-47A7-A846-9F72799FE3A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285840"/>
            <a:ext cx="4327560" cy="5271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489560" y="0"/>
            <a:ext cx="46544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0" lang="ro-RO" sz="11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1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aluarea proiectelor elevilor </a:t>
            </a:r>
            <a:br>
              <a:rPr sz="11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192560" y="2160720"/>
            <a:ext cx="4951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 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Vizualizaţi-l pe site-ul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http://iscbihor1na.wikispaces.com/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(4.19) (Mod 4 planificarea în avans) pentru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080-4F2D-46DB-B210-169413B7A9B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96880"/>
            <a:ext cx="83962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brainstormingul pentru a alcătui o listă de probleme pe care profesorul le poate întâmpina atunci când implică elevii în procesul de evaluar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 ideile grupului pe site-ul wiki, sectiunea discuţii Modul 5 sub forma unui tabel cu două coloane – </a:t>
            </a:r>
            <a:r>
              <a:rPr b="1" lang="ro-RO" sz="2000" spc="-1" strike="noStrike">
                <a:solidFill>
                  <a:srgbClr val="ff5c00"/>
                </a:solidFill>
                <a:latin typeface="Verdana"/>
              </a:rPr>
              <a:t>Provocări şi Soluţii 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http://iscbihor1na.wikispaces.com/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discutaţi în grupul dvs. următoare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e ar trebui să faceţi pentru a găsi rezolvări la acestea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EE5E-7A8E-455A-A6D2-87445787D9B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(20 min.)</a:t>
            </a:r>
            <a:br>
              <a:rPr sz="1800"/>
            </a:br>
            <a:r>
              <a:rPr b="0" lang="ro-RO" sz="2800" spc="-1" strike="noStrike">
                <a:solidFill>
                  <a:srgbClr val="0c2e86"/>
                </a:solidFill>
                <a:latin typeface="Verdana"/>
              </a:rPr>
              <a:t>Analiza strategiilor de evaluare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6240" y="152388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a asupra evaluării practicate la clasă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odulul 5 activitatea 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de dumneavoastră, la clasă, până în prezent. Analizaţi documentele Evaluare X de pe wik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: Discutarea planului evaluării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pţional - Accesaţi Intel</a:t>
            </a:r>
            <a:r>
              <a:rPr b="0" lang="ro-RO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Education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şi descărcaţi un plan de evalu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http://educate.intel.com/ro/assessingprojects/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Notaţi ideile pe care aţi dori să le folosiţi în planul dvs. de evaluare sau în evaluarea propriuzis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întrebările (5.06) Modulul 5 activitatea 1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4BD-1EB5-49B9-99D9-F7BB1A90F20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Planificarea evaluării – Grafic de tim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tilizaţi fişierul </a:t>
            </a:r>
            <a:r>
              <a:rPr b="1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Planificarea evaluării elevilor</a:t>
            </a:r>
            <a:r>
              <a:rPr b="0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– CD Modul 5/Activitatea 2 pentru a stabili şi descrie instrumentele de evaluare pe care le veţi utiliza pe parcurs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1" i="1" lang="ro-RO" sz="1800" spc="-1" strike="noStrike">
                <a:solidFill>
                  <a:srgbClr val="c00000"/>
                </a:solidFill>
                <a:latin typeface="Verdana"/>
              </a:rPr>
              <a:t>Planul de evaluare</a:t>
            </a:r>
            <a:r>
              <a:rPr b="0" i="1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activitatea anterioară la care aţi adăugat propriile notiţ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lvaţi  şi utilizaţi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Lista de verificare a planului evaluării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director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Portofoli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/Sumar evaluare din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DA4-A58D-4764-8D0D-87E7ACCDB96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3880" y="29520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800"/>
            </a:b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8640" y="139068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ţ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 evaluare sumativă destinată produselor-model “ale 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întrebările de la paginile </a:t>
            </a:r>
            <a:r>
              <a:rPr b="1" lang="fr-FR" sz="1800" spc="-1" strike="noStrike">
                <a:solidFill>
                  <a:srgbClr val="0c2e86"/>
                </a:solidFill>
                <a:latin typeface="Verdana"/>
              </a:rPr>
              <a:t>5.09 – 5.10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entru a identifica obiectivele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aplicaţiei elevulu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rearea unei evaluări a produselor-model “ale elevilor”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funcţie de obiectivele identificate la pasul anterior (TEMA) realizaţi un instrument de evaluare a produsului elevulu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OPŢIONAL Treceţi în revistă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informaţia din 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aplica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ţia Assessing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Projec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Folosiţi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aplica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Assessing Projects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Vizitaţi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 http://educate.intel.com/ro/assessingprojects/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Faceţi c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lic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 pe tasta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c2e86"/>
                </a:solidFill>
                <a:latin typeface="Verdana"/>
              </a:rPr>
              <a:t>Enter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00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Înregistraţi-vă dacă sunteţi nou venit p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ARDELEAN NORIN</cp:lastModifiedBy>
  <cp:lastPrinted>2006-11-14T00:45:04Z</cp:lastPrinted>
  <dcterms:modified xsi:type="dcterms:W3CDTF">2010-12-16T02:53:49Z</dcterms:modified>
  <cp:revision>376</cp:revision>
  <dc:subject/>
  <dc:title>Presentation Title Goes Here</dc:title>
</cp:coreProperties>
</file>